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F61-FEF9-479B-A94B-B28C605E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DF6-3D97-47D1-A653-B47D644F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FEB-F956-49E2-9F4B-6381B109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BD0-7B4E-49E4-B669-15C859D6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4BCE-BBC8-41C9-978F-89C968AE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0DF1-B586-434C-A137-6CBD8E34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11DB-12AE-4909-B60E-73E7E240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CCF7-91C0-497B-87CB-97802F68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A317-5A6C-4814-84E5-8A80EECA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BC7F-42DB-4420-88AC-4F2AABA6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C6F1-F090-4177-B006-65437460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A60-BB77-4135-8245-F419ED74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1EC0-04D3-4F3A-B311-A7921043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1104-ED03-4A88-AE80-35301BFE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23E6-C9B9-44F3-A284-EE87B37A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09AF-C646-4E11-90C9-F2093374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A2BE-412A-4C2C-9C3D-FF9B7DAA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C55-E233-4DF3-B04A-A980A1B7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CEF-86B7-4DD2-A696-B96500F0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492-B285-4F48-A433-808BC6C5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01C3-C646-4FAC-BA0C-7E30CE27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E46-2047-428C-8EB5-E0C5AF08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4B4-88F0-4B42-BDDF-A44E4D74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25F-A1C2-425F-BCA1-B6BA6912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7562-0ADC-4A7D-BDFE-4116AA6FF0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7B7E-B58F-4E3E-B435-51129BE835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#1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quid Lay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out this picture from your book. Which layer has the high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ayer has the low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that the liquids have the following densi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6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number would go with which lay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density column 3"/>
          <p:cNvPicPr/>
          <p:nvPr/>
        </p:nvPicPr>
        <p:blipFill>
          <a:blip r:embed="rId1"/>
          <a:srcRect l="0" t="0" r="66146" b="59639"/>
          <a:stretch/>
        </p:blipFill>
        <p:spPr>
          <a:xfrm>
            <a:off x="6095880" y="1523880"/>
            <a:ext cx="2718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quid Layers – Try with your neighb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high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low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middle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DensityColumn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quid Layers – Try on your own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that the liquids on the right have the following dens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5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10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9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7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12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the colors to the correct dens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density column 2"/>
          <p:cNvPicPr/>
          <p:nvPr/>
        </p:nvPicPr>
        <p:blipFill>
          <a:blip r:embed="rId1"/>
          <a:srcRect l="32079" t="5402" r="37737" b="24165"/>
          <a:stretch/>
        </p:blipFill>
        <p:spPr>
          <a:xfrm>
            <a:off x="4876920" y="1523880"/>
            <a:ext cx="3809880" cy="4876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5341680" y="25146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7627680" y="31240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493960" y="38098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7627680" y="449568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5265360" y="502920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7772400" y="563868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ormula for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you pour together liquids that have different dens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e liquid on the top have the highest or lowest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e liquid on the bottom have the highest or lowest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per Scientist Question of the D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e has a book, a ruler, and a bal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Jake find the density of the book with the tools he h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MCj02875010000[1]"/>
          <p:cNvPicPr/>
          <p:nvPr/>
        </p:nvPicPr>
        <p:blipFill>
          <a:blip r:embed="rId1"/>
          <a:stretch/>
        </p:blipFill>
        <p:spPr>
          <a:xfrm>
            <a:off x="7010280" y="3962520"/>
            <a:ext cx="1470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densit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is a comparison of how much matter there is in a certain amount of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ich one is more den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: People in a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this: Which square is more d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447920" y="4038480"/>
            <a:ext cx="1904760" cy="190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334120" y="4038480"/>
            <a:ext cx="1904760" cy="190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1676520" y="41911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1905120" y="5410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2666880" y="46483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2971800" y="5638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981080" y="47242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5562720" y="4267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5943600" y="4267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5638680" y="48769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6477120" y="43434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6095880" y="49528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6477120" y="48006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6858000" y="4495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6324480" y="52578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6934320" y="5029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2"/>
          <p:cNvSpPr/>
          <p:nvPr/>
        </p:nvSpPr>
        <p:spPr>
          <a:xfrm>
            <a:off x="5715000" y="5638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3"/>
          <p:cNvSpPr/>
          <p:nvPr/>
        </p:nvSpPr>
        <p:spPr>
          <a:xfrm>
            <a:off x="6934320" y="5638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4"/>
          <p:cNvSpPr/>
          <p:nvPr/>
        </p:nvSpPr>
        <p:spPr>
          <a:xfrm>
            <a:off x="5410080" y="45720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5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6"/>
          <p:cNvSpPr/>
          <p:nvPr/>
        </p:nvSpPr>
        <p:spPr>
          <a:xfrm>
            <a:off x="6477120" y="5638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7"/>
          <p:cNvSpPr/>
          <p:nvPr/>
        </p:nvSpPr>
        <p:spPr>
          <a:xfrm>
            <a:off x="6172200" y="46483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8"/>
          <p:cNvSpPr/>
          <p:nvPr/>
        </p:nvSpPr>
        <p:spPr>
          <a:xfrm>
            <a:off x="5715000" y="51814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9"/>
          <p:cNvSpPr/>
          <p:nvPr/>
        </p:nvSpPr>
        <p:spPr>
          <a:xfrm>
            <a:off x="6629400" y="5029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0"/>
          <p:cNvSpPr/>
          <p:nvPr/>
        </p:nvSpPr>
        <p:spPr>
          <a:xfrm>
            <a:off x="6629400" y="53341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1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ich one is more den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hich one is more d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752480" y="2590920"/>
            <a:ext cx="990720" cy="99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343400" y="2514600"/>
            <a:ext cx="205740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190512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2209680" y="28195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1905120" y="32767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2286000" y="3124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251460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1"/>
          <p:cNvSpPr/>
          <p:nvPr/>
        </p:nvSpPr>
        <p:spPr>
          <a:xfrm>
            <a:off x="457200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2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3"/>
          <p:cNvSpPr/>
          <p:nvPr/>
        </p:nvSpPr>
        <p:spPr>
          <a:xfrm>
            <a:off x="4724280" y="39625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4"/>
          <p:cNvSpPr/>
          <p:nvPr/>
        </p:nvSpPr>
        <p:spPr>
          <a:xfrm>
            <a:off x="5638680" y="42670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5"/>
          <p:cNvSpPr/>
          <p:nvPr/>
        </p:nvSpPr>
        <p:spPr>
          <a:xfrm>
            <a:off x="6019920" y="3124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densit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Density = </a:t>
            </a:r>
            <a:r>
              <a:rPr b="0" lang="en-US" sz="3200" spc="-1" strike="noStrike" u="sng">
                <a:solidFill>
                  <a:srgbClr val="1919ff"/>
                </a:solidFill>
                <a:uFillTx/>
                <a:latin typeface="Arial"/>
              </a:rPr>
              <a:t> mass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OR     mass ÷ vol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Units for density: </a:t>
            </a:r>
            <a:r>
              <a:rPr b="0" lang="en-US" sz="3200" spc="-1" strike="noStrike" u="sng">
                <a:solidFill>
                  <a:srgbClr val="1919ff"/>
                </a:solidFill>
                <a:uFillTx/>
                <a:latin typeface="Arial"/>
              </a:rPr>
              <a:t> g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re these the units for dens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172200" y="3352680"/>
            <a:ext cx="1676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REMEMBER UNI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 try a density problem togeth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 has a paper clip. It has a mass of 9g and a volume of 3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its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 also has an eraser. It has a mass of 3g, and a volume of 1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its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these problems with your neigh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has a rock. The rock has a mass of 6g and a volume of 3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ro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ll has a gel pen. The gel pen has a mass of 8g and a volume of 2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ro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ow, try these on your ow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’Licia has a watch. It has a mass of 4g and a volume of 2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wat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a has a wallet. It has a mass of 15g and a volume of 5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wall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919ff"/>
                </a:solidFill>
                <a:latin typeface="Arial"/>
              </a:rPr>
              <a:t>Liquid Lay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If you pour together liquids that don’t mix and have different densities, they will form liquid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quid with th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highest d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on the bot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quid with th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lowest d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on the t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7:35:32Z</dcterms:created>
  <dc:creator>Rebecca Walter</dc:creator>
  <dc:description/>
  <dc:language>en-US</dc:language>
  <cp:lastModifiedBy>jluckey</cp:lastModifiedBy>
  <dcterms:modified xsi:type="dcterms:W3CDTF">2014-03-20T14:24:48Z</dcterms:modified>
  <cp:revision>3</cp:revision>
  <dc:subject/>
  <dc:title>Density</dc:title>
</cp:coreProperties>
</file>